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EEA-B93C-4FF3-A1ED-945E2E3F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D89-3BB4-4C0A-BB75-FE8A1049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983-195F-4F0B-855D-5DED4479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4DF-F84E-424D-AA05-8AAC2ACC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103-6D4B-4C14-99EB-887F2A9E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E78-54C9-4641-915D-EECA3903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768-C2F3-4813-BFAB-308C2B16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81B6-2291-480E-AA81-07B166B9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BECC-F674-4A78-93DB-FBF87192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520-2187-4471-B646-8EEABF01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1D1A-A455-4324-A651-E0538597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D26-8B2E-4B0B-92A8-CE18DD5A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79D3-1B24-42C0-A729-8CAB69A24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alibri"/>
              </a:rPr>
              <a:t>Acceptable Use for Stud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:\Program Files\Microsoft Office\Media\CntCD1\ClipArt2\j0232047.wmf"/>
          <p:cNvPicPr/>
          <p:nvPr/>
        </p:nvPicPr>
        <p:blipFill>
          <a:blip r:embed="rId1"/>
          <a:stretch/>
        </p:blipFill>
        <p:spPr>
          <a:xfrm>
            <a:off x="609480" y="4303800"/>
            <a:ext cx="25909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of computers and other equipment is a privilege, not a right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privilege can be removed for failure to follow the guidelines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C:\Program Files\Microsoft Office\Media\CntCD1\ClipArt2\j0231892.wmf"/>
          <p:cNvPicPr/>
          <p:nvPr/>
        </p:nvPicPr>
        <p:blipFill>
          <a:blip r:embed="rId1"/>
          <a:stretch/>
        </p:blipFill>
        <p:spPr>
          <a:xfrm>
            <a:off x="6629400" y="4495680"/>
            <a:ext cx="2057400" cy="220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Program Files\Microsoft Office\Media\CntCD1\ClipArt3\j0233167.wmf"/>
          <p:cNvPicPr/>
          <p:nvPr/>
        </p:nvPicPr>
        <p:blipFill>
          <a:blip r:embed="rId2"/>
          <a:stretch/>
        </p:blipFill>
        <p:spPr>
          <a:xfrm>
            <a:off x="762120" y="4952880"/>
            <a:ext cx="33098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- the user- will log in using your own user name and password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 may not use another person’s ID or password, upload or download programs without permission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 activity is monitored by the district.  Privileges can be taken away for inappropriate activity and/or vandalism(requires restitution for costs associated with the system, hardware, or software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s will be monitored at all times.  This means monitors must be turned so the display is seen by the teacher/adul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Program Files\Microsoft Office\Media\CntCD1\ClipArt3\j0233313.wmf"/>
          <p:cNvPicPr/>
          <p:nvPr/>
        </p:nvPicPr>
        <p:blipFill>
          <a:blip r:embed="rId1"/>
          <a:stretch/>
        </p:blipFill>
        <p:spPr>
          <a:xfrm>
            <a:off x="3429000" y="380880"/>
            <a:ext cx="225756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s retain all rights to their work.  However, the district may use your work for educationally related purpos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C:\Program Files\Microsoft Office\Media\CntCD1\ClipArt3\j0233965.wmf"/>
          <p:cNvPicPr/>
          <p:nvPr/>
        </p:nvPicPr>
        <p:blipFill>
          <a:blip r:embed="rId1"/>
          <a:stretch/>
        </p:blipFill>
        <p:spPr>
          <a:xfrm>
            <a:off x="1143000" y="4724280"/>
            <a:ext cx="240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 use must be educationally relevant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 students must have parental permission to use the internet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 websites must be previewed before using them with students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show matri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s may search the approved district databa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Spicewood website&gt; Library&gt; Online Resources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teacher assistanc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ents may access their teacher’s prepared list on Teacher Web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 teacher supervision with careful planning, students ma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build their own curriculum-related webpages, wikis, blogs or add to the class webpage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contribute to wikis and/or blog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C:\Program Files\Microsoft Office\Media\CntCD1\ClipArt6\j0292124.wmf"/>
          <p:cNvPicPr/>
          <p:nvPr/>
        </p:nvPicPr>
        <p:blipFill>
          <a:blip r:embed="rId1"/>
          <a:stretch/>
        </p:blipFill>
        <p:spPr>
          <a:xfrm>
            <a:off x="533520" y="4876920"/>
            <a:ext cx="18129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3:47:25Z</dcterms:created>
  <dc:creator>105allena</dc:creator>
  <dc:description/>
  <dc:language>en-US</dc:language>
  <cp:lastModifiedBy>105allena</cp:lastModifiedBy>
  <dcterms:modified xsi:type="dcterms:W3CDTF">2009-08-19T15:26:58Z</dcterms:modified>
  <cp:revision>10</cp:revision>
  <dc:subject/>
  <dc:title>Acceptable Use for Students</dc:title>
</cp:coreProperties>
</file>